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F1E-6713-4656-A347-E71402C0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C7E-C4F8-429D-AAD0-2F90A377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EFE-3543-4A1F-89B1-CF622127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485-A2F3-41AC-9CAA-7CF31BC6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9EF4-32EF-48B4-816B-348BD80B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5D9F-5A02-431A-9326-1305942F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BB64-9BB8-480E-8B9B-2A05133B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5AE2-7D06-4C69-AE2E-61FA327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A341-629D-4BAE-BB3C-2154E672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FBDC-4254-4ECB-965E-EB0EDEC8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635A-5F2F-4ECC-8F54-7E768E3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F8D-55F6-400C-81B5-E9D62B5F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BA6-FD15-47B5-BCD2-CDE1B3C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9EF3-567E-4106-9061-CFA1795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91E5-24EE-438C-BB29-6C5065F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6BE1-17F1-4CF6-9D85-28843990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3D3-C778-4E9E-865D-095877E0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E90-80EC-47C6-8411-BD07EA6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B4E-E84C-4E6E-8583-0E248E26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1ED-EC90-43BB-8E08-BFBC7A58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AB1-8B56-4730-9878-8BB3D0D2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556-8ADF-4BCF-9704-3562C91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69C-C004-463F-96DF-C21FEDE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7FB-6BF0-4CDD-9724-C76FD09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05F6-AB02-4948-8A2E-B4BF2BD20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16B-5C59-4D4B-8630-36D4F99E9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8627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1081"/>
                </a:solidFill>
                <a:latin typeface="Tahoma"/>
              </a:rPr>
              <a:t>Мелкие млекопитающие- постоянные обитатели живого угол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92720" y="4723920"/>
            <a:ext cx="354168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ыполнили: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студенты 636 гр.    Коснырева И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Жикина Светла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асева Евдок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четкина Елизав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Школьная Екатер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4572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Значение млекопитающих и биоэкологическая характеристика класса млекопитающих. Классифик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Многообразие и характеристика мелких млекопитающих- грызунов, зайцеобразных. Экологический пасп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Создание оптимальных условий для жизни зверей в уголках природы ДО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Особенности подбора млекопитающих в живые уголки разных возрастных груп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Методика ознакомления дошкольников разных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возрастных групп с мелкими млекопитающ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Цель и 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Раскрыть проблему ознакомления дошкольников с мелкими млекопитающими  в уголках природы ДО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Познакомить с литератур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Раскрыть значение мелких млекопитающи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Познакомить с характеристикой, многообразием, условиями жизни, особенностями подбора обитателей живого уголк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30240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Основное содержание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По проблемным вопросам были раскрыт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классификация по способу питания, взаимосвязи с человеком, способу передвижения, по среде обитания, внешнему виду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видовое многообразие и экологический паспорт млекопитающих (происхождение, размер, окраска, питание, поведение, размножение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Оптимальные условия жизни зверей в уголке природы ( клетки, предметы ухода, болезни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Подбор млекопитающих в живые уголки в разных возрастных группах в зависимости от разнообразия программ (Серебрякова Т.А., Золотова Е.И.,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Методические рекомендации по ознакомлению дошкольников с мелкими млекопитающими (конспекты, наблюдения, загадки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00720" y="4121280"/>
            <a:ext cx="2736720" cy="2736720"/>
            <a:chOff x="4500720" y="4121280"/>
            <a:chExt cx="2736720" cy="2736720"/>
          </a:xfrm>
        </p:grpSpPr>
        <p:sp>
          <p:nvSpPr>
            <p:cNvPr id="95" name=""/>
            <p:cNvSpPr/>
            <p:nvPr/>
          </p:nvSpPr>
          <p:spPr>
            <a:xfrm>
              <a:off x="4523760" y="4144680"/>
              <a:ext cx="2689920" cy="268992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00720" y="4121280"/>
              <a:ext cx="2736720" cy="2736720"/>
            </a:xfrm>
            <a:custGeom>
              <a:avLst/>
              <a:gdLst/>
              <a:ahLst/>
              <a:rect l="l" t="t" r="r" b="b"/>
              <a:pathLst>
                <a:path w="3047" h="3047">
                  <a:moveTo>
                    <a:pt x="2835" y="0"/>
                  </a:moveTo>
                  <a:lnTo>
                    <a:pt x="3047" y="211"/>
                  </a:lnTo>
                  <a:lnTo>
                    <a:pt x="3047" y="2835"/>
                  </a:lnTo>
                  <a:lnTo>
                    <a:pt x="2835" y="3047"/>
                  </a:lnTo>
                  <a:lnTo>
                    <a:pt x="211" y="3047"/>
                  </a:lnTo>
                  <a:lnTo>
                    <a:pt x="0" y="2835"/>
                  </a:lnTo>
                  <a:lnTo>
                    <a:pt x="0" y="211"/>
                  </a:lnTo>
                  <a:lnTo>
                    <a:pt x="211" y="0"/>
                  </a:lnTo>
                  <a:lnTo>
                    <a:pt x="3047" y="0"/>
                  </a:lnTo>
                  <a:lnTo>
                    <a:pt x="3047" y="3047"/>
                  </a:lnTo>
                  <a:lnTo>
                    <a:pt x="0" y="30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Таким образом, данная тема проекта является актуальной, т.к. дети разных возрастов должны знать многообразие млекопитающ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356000" y="3860640"/>
            <a:ext cx="3673440" cy="2467080"/>
            <a:chOff x="4356000" y="3860640"/>
            <a:chExt cx="3673440" cy="2467080"/>
          </a:xfrm>
        </p:grpSpPr>
        <p:sp>
          <p:nvSpPr>
            <p:cNvPr id="100" name=""/>
            <p:cNvSpPr/>
            <p:nvPr/>
          </p:nvSpPr>
          <p:spPr>
            <a:xfrm>
              <a:off x="4382280" y="3887280"/>
              <a:ext cx="3620160" cy="24138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6000" y="3860640"/>
              <a:ext cx="3673440" cy="246708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Иванова А.И. Мир живот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Николаева С.Н., Волкова Н.А. Познаем прир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Марковская М.М. Уголок природы в детском са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Золотова Е.И. и другие авторы по данной пробл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03440" y="1916280"/>
            <a:ext cx="3318840" cy="4941360"/>
            <a:chOff x="703440" y="1916280"/>
            <a:chExt cx="3318840" cy="4941360"/>
          </a:xfrm>
        </p:grpSpPr>
        <p:sp>
          <p:nvSpPr>
            <p:cNvPr id="106" name=""/>
            <p:cNvSpPr/>
            <p:nvPr/>
          </p:nvSpPr>
          <p:spPr>
            <a:xfrm>
              <a:off x="739080" y="1951920"/>
              <a:ext cx="3247560" cy="487008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3440" y="1916280"/>
              <a:ext cx="3318840" cy="4941360"/>
            </a:xfrm>
            <a:custGeom>
              <a:avLst/>
              <a:gdLst/>
              <a:ahLst/>
              <a:rect l="l" t="t" r="r" b="b"/>
              <a:pathLst>
                <a:path w="2041" h="3039">
                  <a:moveTo>
                    <a:pt x="1861" y="0"/>
                  </a:moveTo>
                  <a:lnTo>
                    <a:pt x="2041" y="179"/>
                  </a:lnTo>
                  <a:lnTo>
                    <a:pt x="2041" y="2859"/>
                  </a:lnTo>
                  <a:lnTo>
                    <a:pt x="1861" y="3039"/>
                  </a:lnTo>
                  <a:lnTo>
                    <a:pt x="179" y="3039"/>
                  </a:lnTo>
                  <a:lnTo>
                    <a:pt x="0" y="2859"/>
                  </a:lnTo>
                  <a:lnTo>
                    <a:pt x="0" y="179"/>
                  </a:lnTo>
                  <a:lnTo>
                    <a:pt x="179" y="0"/>
                  </a:lnTo>
                  <a:lnTo>
                    <a:pt x="2041" y="0"/>
                  </a:lnTo>
                  <a:lnTo>
                    <a:pt x="2041" y="3039"/>
                  </a:lnTo>
                  <a:lnTo>
                    <a:pt x="0" y="30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319640" y="2852640"/>
            <a:ext cx="46450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6:08:42Z</dcterms:created>
  <dc:creator>студент</dc:creator>
  <dc:description/>
  <dc:language>en-US</dc:language>
  <cp:lastModifiedBy>студент</cp:lastModifiedBy>
  <dcterms:modified xsi:type="dcterms:W3CDTF">2010-05-22T08:59:13Z</dcterms:modified>
  <cp:revision>3</cp:revision>
  <dc:subject/>
  <dc:title>Мелкие млекопитающие- постоянные обитатели живого уголка</dc:title>
</cp:coreProperties>
</file>